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2415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2415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2415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"/>
          <p:cNvSpPr/>
          <p:nvPr/>
        </p:nvSpPr>
        <p:spPr>
          <a:xfrm>
            <a:off x="4140360" y="1052640"/>
            <a:ext cx="5003640" cy="11523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2415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2" descr=""/>
          <p:cNvPicPr/>
          <p:nvPr/>
        </p:nvPicPr>
        <p:blipFill>
          <a:blip r:embed="rId1"/>
          <a:stretch/>
        </p:blipFill>
        <p:spPr>
          <a:xfrm>
            <a:off x="3584520" y="749160"/>
            <a:ext cx="51386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402920" y="2970000"/>
            <a:ext cx="72723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е включайте и не выключайте компьютер без разрешения учителя;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е прикасайтесь к экрану монитора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В случае неисправности компьютера – срочно сообщите учителю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395280" y="2781360"/>
            <a:ext cx="938160" cy="1800000"/>
            <a:chOff x="395280" y="2781360"/>
            <a:chExt cx="938160" cy="1800000"/>
          </a:xfrm>
        </p:grpSpPr>
        <p:sp>
          <p:nvSpPr>
            <p:cNvPr id="81" name="Rectangle 5"/>
            <p:cNvSpPr/>
            <p:nvPr/>
          </p:nvSpPr>
          <p:spPr>
            <a:xfrm>
              <a:off x="641520" y="2994840"/>
              <a:ext cx="387720" cy="43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82" name="Picture 6" descr="учитель"/>
            <p:cNvPicPr/>
            <p:nvPr/>
          </p:nvPicPr>
          <p:blipFill>
            <a:blip r:embed="rId1"/>
            <a:stretch/>
          </p:blipFill>
          <p:spPr>
            <a:xfrm>
              <a:off x="395280" y="2781360"/>
              <a:ext cx="93816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Group 10"/>
          <p:cNvGrpSpPr/>
          <p:nvPr/>
        </p:nvGrpSpPr>
        <p:grpSpPr>
          <a:xfrm>
            <a:off x="466560" y="620640"/>
            <a:ext cx="8677440" cy="1819440"/>
            <a:chOff x="466560" y="620640"/>
            <a:chExt cx="8677440" cy="1819440"/>
          </a:xfrm>
        </p:grpSpPr>
        <p:pic>
          <p:nvPicPr>
            <p:cNvPr id="84" name="Picture 11" descr="63504"/>
            <p:cNvPicPr/>
            <p:nvPr/>
          </p:nvPicPr>
          <p:blipFill>
            <a:blip r:embed="rId2"/>
            <a:srcRect l="14677" t="45851" r="77235" b="48772"/>
            <a:stretch/>
          </p:blipFill>
          <p:spPr>
            <a:xfrm>
              <a:off x="466560" y="620640"/>
              <a:ext cx="1073160" cy="122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12"/>
            <p:cNvSpPr/>
            <p:nvPr/>
          </p:nvSpPr>
          <p:spPr>
            <a:xfrm>
              <a:off x="468360" y="1142280"/>
              <a:ext cx="86756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ru-RU" sz="3500" spc="-1" strike="noStrike">
                  <a:solidFill>
                    <a:srgbClr val="ff0000"/>
                  </a:solidFill>
                  <a:latin typeface="Times New Roman"/>
                </a:rPr>
                <a:t>Правила техники безопасности</a:t>
              </a:r>
              <a:endParaRPr b="0" lang="en-US" sz="35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500" spc="-1" strike="noStrike">
                  <a:solidFill>
                    <a:srgbClr val="ff0000"/>
                  </a:solidFill>
                  <a:latin typeface="Times New Roman"/>
                </a:rPr>
                <a:t>             </a:t>
              </a:r>
              <a:r>
                <a:rPr b="1" lang="ru-RU" sz="3500" spc="-1" strike="noStrike">
                  <a:solidFill>
                    <a:srgbClr val="ff0000"/>
                  </a:solidFill>
                  <a:latin typeface="Times New Roman"/>
                </a:rPr>
                <a:t>в компьютерном классе</a:t>
              </a:r>
              <a:endParaRPr b="0" lang="en-US" sz="35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15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Правила техники безопасности в компьютерном классе</a:t>
            </a:r>
            <a:endParaRPr b="0" lang="en-US" sz="3200" spc="-1" strike="noStrike">
              <a:solidFill>
                <a:srgbClr val="cc0099"/>
              </a:solidFill>
              <a:latin typeface="Arial"/>
            </a:endParaRPr>
          </a:p>
        </p:txBody>
      </p:sp>
      <p:pic>
        <p:nvPicPr>
          <p:cNvPr id="87" name="Picture 4" descr="komp_shkol"/>
          <p:cNvPicPr/>
          <p:nvPr/>
        </p:nvPicPr>
        <p:blipFill>
          <a:blip r:embed="rId1"/>
          <a:stretch/>
        </p:blipFill>
        <p:spPr>
          <a:xfrm>
            <a:off x="468360" y="3213000"/>
            <a:ext cx="2522520" cy="2880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2987640" y="3303720"/>
            <a:ext cx="586728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При работе с ЭВМ необходимо, чтобы экран находился на расстоянии 55-65  см от глаз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21333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Учащимся строго запрещается:</a:t>
            </a:r>
            <a:endParaRPr b="0" lang="en-US" sz="32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6920" y="3141360"/>
            <a:ext cx="764388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трогать разъемы соединительных кабелей;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прикасаться к питающим проводам и устройствам заземления;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работать во влажной одежде и влажными руками.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7"/>
          <p:cNvGrpSpPr/>
          <p:nvPr/>
        </p:nvGrpSpPr>
        <p:grpSpPr>
          <a:xfrm>
            <a:off x="468360" y="3213000"/>
            <a:ext cx="8675640" cy="1683360"/>
            <a:chOff x="468360" y="3213000"/>
            <a:chExt cx="8675640" cy="1683360"/>
          </a:xfrm>
        </p:grpSpPr>
        <p:pic>
          <p:nvPicPr>
            <p:cNvPr id="92" name="Picture 8" descr="63504"/>
            <p:cNvPicPr/>
            <p:nvPr/>
          </p:nvPicPr>
          <p:blipFill>
            <a:blip r:embed="rId1"/>
            <a:srcRect l="14677" t="10135" r="77235" b="84359"/>
            <a:stretch/>
          </p:blipFill>
          <p:spPr>
            <a:xfrm>
              <a:off x="468360" y="3213000"/>
              <a:ext cx="111600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9"/>
            <p:cNvSpPr/>
            <p:nvPr/>
          </p:nvSpPr>
          <p:spPr>
            <a:xfrm>
              <a:off x="468360" y="3644640"/>
              <a:ext cx="867564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При появлении запаха гари, закончить работу и сообщить учителю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258560" y="2565360"/>
            <a:ext cx="72723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cc"/>
                </a:solidFill>
                <a:latin typeface="Times New Roman"/>
              </a:rPr>
              <a:t>Быстро поморгать, закрыть глаза и посидеть спокойно считая до 5. Повторить 4-5 раз;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</a:rPr>
              <a:t>Медленно переводить взгляд вверх-вниз, влево-вправо;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cc"/>
                </a:solidFill>
                <a:latin typeface="Times New Roman"/>
              </a:rPr>
              <a:t>Крепко зажмурить глаза(считать до 3), открыть их и посмотреть вдаль. Повторить 4-5 раз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395280" y="2781360"/>
            <a:ext cx="938160" cy="1800000"/>
            <a:chOff x="395280" y="2781360"/>
            <a:chExt cx="938160" cy="1800000"/>
          </a:xfrm>
        </p:grpSpPr>
        <p:sp>
          <p:nvSpPr>
            <p:cNvPr id="96" name="Rectangle 4"/>
            <p:cNvSpPr/>
            <p:nvPr/>
          </p:nvSpPr>
          <p:spPr>
            <a:xfrm>
              <a:off x="641520" y="2994840"/>
              <a:ext cx="387720" cy="43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97" name="Picture 5" descr="учитель"/>
            <p:cNvPicPr/>
            <p:nvPr/>
          </p:nvPicPr>
          <p:blipFill>
            <a:blip r:embed="rId1"/>
            <a:stretch/>
          </p:blipFill>
          <p:spPr>
            <a:xfrm>
              <a:off x="395280" y="2781360"/>
              <a:ext cx="93816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Group 6"/>
          <p:cNvGrpSpPr/>
          <p:nvPr/>
        </p:nvGrpSpPr>
        <p:grpSpPr>
          <a:xfrm>
            <a:off x="466560" y="620640"/>
            <a:ext cx="8677440" cy="1819440"/>
            <a:chOff x="466560" y="620640"/>
            <a:chExt cx="8677440" cy="1819440"/>
          </a:xfrm>
        </p:grpSpPr>
        <p:pic>
          <p:nvPicPr>
            <p:cNvPr id="99" name="Picture 7" descr="63504"/>
            <p:cNvPicPr/>
            <p:nvPr/>
          </p:nvPicPr>
          <p:blipFill>
            <a:blip r:embed="rId2"/>
            <a:srcRect l="14677" t="45851" r="77235" b="48772"/>
            <a:stretch/>
          </p:blipFill>
          <p:spPr>
            <a:xfrm>
              <a:off x="466560" y="620640"/>
              <a:ext cx="1073160" cy="122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8"/>
            <p:cNvSpPr/>
            <p:nvPr/>
          </p:nvSpPr>
          <p:spPr>
            <a:xfrm>
              <a:off x="468360" y="1142280"/>
              <a:ext cx="86756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ru-RU" sz="3500" spc="-1" strike="noStrike">
                  <a:solidFill>
                    <a:srgbClr val="ff0000"/>
                  </a:solidFill>
                  <a:latin typeface="Times New Roman"/>
                </a:rPr>
                <a:t>Комплекс упражнений гимнастики для глаз</a:t>
              </a:r>
              <a:endParaRPr b="0" lang="en-US" sz="35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99680" y="2565360"/>
            <a:ext cx="80312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Arial"/>
              </a:rPr>
              <a:t>Вариант 1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Прилежный ученик, выполняя задание по карточке,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прикрепил её скотчем к экрану монитора. Какие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правила техники безопасносности он нарушил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50"/>
                </a:solidFill>
                <a:latin typeface="Arial"/>
              </a:rPr>
              <a:t>Вариант 2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Занимая рабочие места за компьютерами, два торопливых ученика “пробивали” себе дорогу, усердно работая локтями. Какие правила техники безопасности они нарушили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466560" y="620640"/>
            <a:ext cx="8677440" cy="1819440"/>
            <a:chOff x="466560" y="620640"/>
            <a:chExt cx="8677440" cy="1819440"/>
          </a:xfrm>
        </p:grpSpPr>
        <p:pic>
          <p:nvPicPr>
            <p:cNvPr id="103" name="Picture 7" descr="63504"/>
            <p:cNvPicPr/>
            <p:nvPr/>
          </p:nvPicPr>
          <p:blipFill>
            <a:blip r:embed="rId1"/>
            <a:srcRect l="14677" t="45851" r="77235" b="48772"/>
            <a:stretch/>
          </p:blipFill>
          <p:spPr>
            <a:xfrm>
              <a:off x="466560" y="620640"/>
              <a:ext cx="1073160" cy="122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8"/>
            <p:cNvSpPr/>
            <p:nvPr/>
          </p:nvSpPr>
          <p:spPr>
            <a:xfrm>
              <a:off x="468360" y="1142280"/>
              <a:ext cx="86756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ru-RU" sz="3500" spc="-1" strike="noStrike">
                  <a:solidFill>
                    <a:srgbClr val="ff0000"/>
                  </a:solidFill>
                  <a:latin typeface="Times New Roman"/>
                </a:rPr>
                <a:t>Задания для опроса</a:t>
              </a:r>
              <a:endParaRPr b="0" lang="en-US" sz="35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500" spc="-1" strike="noStrike">
                  <a:solidFill>
                    <a:srgbClr val="ff0000"/>
                  </a:solidFill>
                  <a:latin typeface="Times New Roman"/>
                </a:rPr>
                <a:t>           </a:t>
              </a:r>
              <a:r>
                <a:rPr b="1" lang="ru-RU" sz="3500" spc="-1" strike="noStrike">
                  <a:solidFill>
                    <a:srgbClr val="ff0000"/>
                  </a:solidFill>
                  <a:latin typeface="Times New Roman"/>
                </a:rPr>
                <a:t>по технике безопасности</a:t>
              </a:r>
              <a:endParaRPr b="0" lang="en-US" sz="35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99680" y="2428920"/>
            <a:ext cx="8031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Arial"/>
              </a:rPr>
              <a:t>Вариант 3</a:t>
            </a:r>
            <a:r>
              <a:rPr b="0" lang="uk-UA" sz="28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Торопливый ученик, вбежав к кабинет информатики, включил компьютер себе и соседу и, ещё не зная, чем будет заниматься на уроке, стал подряд нажимать на все клавиши. Нарушил ли он правила техники безопасности? Если да, то такие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50"/>
                </a:solidFill>
                <a:latin typeface="Arial"/>
              </a:rPr>
              <a:t>Вариант 4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Очень старательная ученица, выполняя задание на компьютере, придвинулась вплотную к экрану монитора и стала водить пальчиком по тексту на экране монитора. Нарушила ли она правила техники безопасности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466560" y="620640"/>
            <a:ext cx="8677440" cy="1819440"/>
            <a:chOff x="466560" y="620640"/>
            <a:chExt cx="8677440" cy="1819440"/>
          </a:xfrm>
        </p:grpSpPr>
        <p:pic>
          <p:nvPicPr>
            <p:cNvPr id="107" name="Picture 7" descr="63504"/>
            <p:cNvPicPr/>
            <p:nvPr/>
          </p:nvPicPr>
          <p:blipFill>
            <a:blip r:embed="rId1"/>
            <a:srcRect l="14677" t="45851" r="77235" b="48772"/>
            <a:stretch/>
          </p:blipFill>
          <p:spPr>
            <a:xfrm>
              <a:off x="466560" y="620640"/>
              <a:ext cx="1073160" cy="122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/>
            <p:cNvSpPr/>
            <p:nvPr/>
          </p:nvSpPr>
          <p:spPr>
            <a:xfrm>
              <a:off x="468360" y="1142280"/>
              <a:ext cx="86756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ru-RU" sz="3500" spc="-1" strike="noStrike">
                  <a:solidFill>
                    <a:srgbClr val="ff0000"/>
                  </a:solidFill>
                  <a:latin typeface="Times New Roman"/>
                </a:rPr>
                <a:t>Задания для опроса</a:t>
              </a:r>
              <a:endParaRPr b="0" lang="en-US" sz="35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500" spc="-1" strike="noStrike">
                  <a:solidFill>
                    <a:srgbClr val="ff0000"/>
                  </a:solidFill>
                  <a:latin typeface="Times New Roman"/>
                </a:rPr>
                <a:t>           </a:t>
              </a:r>
              <a:r>
                <a:rPr b="1" lang="ru-RU" sz="3500" spc="-1" strike="noStrike">
                  <a:solidFill>
                    <a:srgbClr val="ff0000"/>
                  </a:solidFill>
                  <a:latin typeface="Times New Roman"/>
                </a:rPr>
                <a:t>по технике безопасности</a:t>
              </a:r>
              <a:endParaRPr b="0" lang="en-US" sz="35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22:18:36Z</dcterms:created>
  <dc:creator>петухов</dc:creator>
  <dc:description/>
  <dc:language>en-US</dc:language>
  <cp:lastModifiedBy>www.PHILka.RU</cp:lastModifiedBy>
  <dcterms:modified xsi:type="dcterms:W3CDTF">2011-01-18T04:19:18Z</dcterms:modified>
  <cp:revision>5</cp:revision>
  <dc:subject/>
  <dc:title>Правила техники безопасносности в компьютерном классе</dc:title>
</cp:coreProperties>
</file>